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7.jpeg" ContentType="image/jpeg"/>
  <Override PartName="/ppt/media/image18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D256-0ECB-493A-A261-2D0362C54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A74A-D921-4C73-886B-76A76344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A13A07-5100-4B7E-97C0-01E99041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BFE9A1-5C04-4FE9-92B7-E2E5096C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FC0CF1-348E-41EE-908C-CA905C2E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A80FE5-2DD9-4584-9CA6-3E685094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D0284B-A4F8-414C-8BC5-3D7D0486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1DAB58-86E7-4C74-827E-A3BF825B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70D203-755C-4B49-BC55-561A6236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321B5E-556B-42C9-9E6E-D691B8CB7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DACF52-FBB0-4841-82E7-C7C4F7D4D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17C75D-2667-4673-90C6-1D867E20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9369-8BD9-411A-A582-5F4CCA698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93DD95-14AA-4A24-AB84-C18B3515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440969-F804-4E80-BEB6-8EC47359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D89431-43D8-4AFD-83BF-EC2AF1B6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D3DB83-0964-4450-8A32-357EDCE9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F6A1D1-C379-40B0-8D29-845ABFAB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953ED2-C667-4E54-B335-379AFC0E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F8D3E4-5D6E-4235-9061-5F26E7BE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2C8B2B-E9D3-47B8-B3B5-BAF8D088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312B5D-78A5-4222-BA76-A63B2FCD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A0F0A1-A8C6-47FD-8630-E2F7FEFBC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7969-5761-4FD0-BB50-8E1E083C3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16870C-3FEE-4BBA-936E-0B9D51C8F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8624504-E958-4B64-AD95-C54A1B066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209308-2EE3-4473-919E-5BFF012F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4F8174D-2E54-4C6D-BD0C-EF022C15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1D2679-06C9-4782-BB64-4F089123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411CFC5-5FBA-44BD-A706-A2303670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72297D-493C-4B4D-B421-F81608B7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0B004D-7E68-46E9-9FCB-34FFFED7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06D82C-9249-4811-B26E-4F9E2126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186641-098C-4294-99DE-A20D694D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B039-7914-477C-878B-106316C41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CA6D5C-819D-454B-836F-7F62BB0C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E8958B-402D-46BC-998E-B04C31B26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2153A80-A765-4447-A998-7997C7AE4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AB1E-AB15-4E26-80ED-6F115C73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7F88-7B3E-41CF-88B2-46C8EFE6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A382-4630-4621-878F-2DD97466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48D3-4C79-4C80-8D6E-FD343510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63FA-45B5-4BBB-B787-9BCA0663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B1AA-537A-4279-9AA3-179A3136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8BDA-CBE0-4EC6-852F-1E70808B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9F47-9861-4A5F-B86E-98067188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8305-7391-49C4-A682-CFA0D6AD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134E-A08E-47C1-980A-B22DB019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4C16-343A-4A6A-92BE-C246E5D33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97D9-CA3D-49A8-882B-86C3D0A42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0451AE-E226-4FA9-8EFB-80873F820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E47D27-730E-48E0-B002-B1C2FFF1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A68EA0-FFFF-4DAD-8F29-79A6F76E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4733DA-45A2-48F9-8E92-658CA805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8FD654-AA32-4159-81D8-741E15B1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F8DB-29CE-47EC-96E3-67D16E59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449C00-2E64-4409-B12A-ACCFC58D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4BC930-83A3-4FBA-85CB-79B74BA8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289370-1A69-4641-989D-94882909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E81B07-3A3B-4F80-B2E2-C884C7D6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21E71A-3D9C-4D5E-88DA-A9D6E6CD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E4E6CA-4F6E-4E54-A2B1-0FDD10350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3A9060-07BD-4F04-B0D1-F12EC2338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38E9C-E65E-4F38-A6BC-54820906A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9DAAF-3C57-4D1F-B29D-1486A9F3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F5C71-595A-41FE-B94C-E81FD5A4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DDDC-71B0-4249-8AC0-F1C640CB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BDFE8-65D6-4253-AE34-4619FAA8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131ED-4E35-481A-BFB7-586CB66D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640D6-6334-49AF-8D19-5968A456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7ADF8-C42B-43E7-BBCB-60BF4B21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C5493-C0E3-4950-BFD6-A4401B6C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AE855-A4B7-44D8-9A79-6F6DC219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C743A-527A-4E36-846B-7C293117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9E4F6-0103-4804-8F1E-848C1106C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789F0-A368-4711-B865-D0F7682C3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534DC5-877E-4BA3-8D41-405CC8DD5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FB93-7BF4-446A-9BB5-8EB954D5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445730-9DE6-4E3B-A7BA-A3433D14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E69A14-C525-4E99-A647-66F858E4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C5A305-CFC9-4D2B-B6E6-63F566E2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9C45AC-A998-404B-B16A-F88B8948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BA3C9B-104A-4CFD-A4D9-8E593E0B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4FC365-7D70-4B42-99F9-75671142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1CED5C-6E52-4BAB-970C-49FE4809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5154AD-3508-445B-B944-45E08061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CAD2CC-2C13-4B23-A72B-3C6997A6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017EB8-41C2-4D8A-8FB9-E5D889CCC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7394-5949-4930-B2F9-88849C2E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B4ED2E-8AA2-47D3-82E0-5C231DE04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50C79-3E98-403C-B545-92DD241FD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1616B-FE43-472B-81F5-370C448A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47874-6479-4297-A849-81337A0F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1C5A3-F285-4EBF-85C9-B4C75635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D3F87-B5D2-4C2F-97F0-2840894C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B783A-2127-4BFB-9E48-9D716B5A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21B32-880F-4E63-BED2-1918BC33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377B2-F5E6-43D6-9910-8AFE73CA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B1D02-E9C7-4959-87CC-B0745930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794D-A611-45A2-8651-C524E5DE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A80AD-428A-442B-9E7B-700828A2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668FE-16C2-4862-B279-CE7633E23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702B5-3E43-42D7-82E4-61DA336D5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81D158-78C2-4245-8A90-5768E3B2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699843-80CF-4BB3-A289-A39AB5C0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46AD5B-C382-4258-A529-191D4EA0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CBB4F5-6AF7-4B79-805D-C07B923B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FA0CAB-AED7-45B4-B8D8-1113E23C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D16BF0-7088-4D2C-8C51-E780C69B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83DE7F-2F21-4302-93E5-3A30AAF5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74B0-768A-4197-9B66-D4EA53E4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6FB49E-EE0C-4C30-BA5F-FAB8BFA9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7D5DB7-61AC-4A96-A57F-7677D1C2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32F286-A9C6-4B6E-8687-E40D7A8B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472DE3-326A-4EB1-A124-D482E5137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0EEFE4-8E2B-4308-A6E5-BA805AB6B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CE6A0-ADEE-4150-B53E-5769BE042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A0D58-CEEF-4A68-A85A-326B3F16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6C78F-BA6F-4C57-A827-E8D56A72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7DA0E-C779-49DA-ABDC-8C0B1B20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A3EF3-131E-4BF2-AD6C-B17A8AE0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5DFB-C8E2-4AD2-AF9C-D7E560CF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80758-56B3-467C-AB3F-9DF9172C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07731-0FE5-4060-989F-49A8E436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E235B-1A0A-4487-95AD-C79D2BAC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ABD6C-E081-477B-AEE6-BF3D6982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D9120-5E5F-4421-BD36-32358B44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11153-2EE0-4E81-AC73-BE2C8E0AD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D68F6-47E6-4277-880D-1A291615A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B85EE1-CBF1-4421-9F7B-379A0FA82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FDB0B6-F40A-475D-9AC6-180A29AF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DC4766-2F45-44C2-90BE-E349479E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5B8C-8898-49BE-90A7-2330CA0E4F0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Прямая соединительная линия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Прямая соединительная линия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Прямая соединительная линия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Прямая соединительная линия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Прямоугольник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Прямая соединительная линия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Овал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2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C4FE-BC51-457A-A61A-D1C1BFD12C5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ftr" idx="3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Прямая соединительная линия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Овал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Прямая соединительная линия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Прямоугольник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Прямая соединительная линия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Прямая соединительная линия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Прямая соединительная линия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sldNum" idx="3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C79A-5615-452A-9ACF-9266E00D2CE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ftr" idx="3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949F-2015-4D7B-9386-83DCD4BF140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CFD6-D503-4716-B367-AEBE6BA1EC1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F049-0F13-4173-85B4-89DE6C0BF554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1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2670-695D-4D09-92A5-18255903565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dt" idx="15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ая соединительная линия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рямая соединительная линия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Прямая соединительная линия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Прямая соединительная линия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Овал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Овал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Овал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Овал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Овал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6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7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8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BE1D-2A74-4D84-89AB-A846DAC01FA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305A-CF7A-45B8-97CA-42A6844FDDC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Прямоугольник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Прямоугольник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рямоугольник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Прямая соединительная линия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Прямая соединительная линия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Прямая соединительная линия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Прямая соединительная линия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Прямоугольник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Овал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Овал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Овал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Овал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Овал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Прямая соединительная линия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2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3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4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F640-83B8-468C-9B57-F7CA0C52A3E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5700-0611-481D-A106-57D58DDF0D4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2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vitawater.ru/products/korm02.shtml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salamand.ru/salamandra/" TargetMode="External"/><Relationship Id="rId3" Type="http://schemas.openxmlformats.org/officeDocument/2006/relationships/hyperlink" Target="http://salamand.ru/ognennaya-ili-pyatnistaya-salamandra/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Заголовок 1" descr=""/>
          <p:cNvPicPr/>
          <p:nvPr/>
        </p:nvPicPr>
        <p:blipFill>
          <a:blip r:embed="rId1"/>
          <a:stretch/>
        </p:blipFill>
        <p:spPr>
          <a:xfrm>
            <a:off x="371520" y="353880"/>
            <a:ext cx="8467560" cy="32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Заголовок 1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854280"/>
          </a:xfrm>
          <a:prstGeom prst="rect">
            <a:avLst/>
          </a:prstGeom>
          <a:ln w="0">
            <a:noFill/>
          </a:ln>
        </p:spPr>
      </p:pic>
      <p:sp>
        <p:nvSpPr>
          <p:cNvPr id="540" name="Прямоугольник 3"/>
          <p:cNvSpPr/>
          <p:nvPr/>
        </p:nvSpPr>
        <p:spPr>
          <a:xfrm>
            <a:off x="857160" y="1071720"/>
            <a:ext cx="7072560" cy="59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Испанские тритоны (</a:t>
            </a:r>
            <a:r>
              <a:rPr b="1" i="1" lang="ru-RU" sz="2000" spc="-1" strike="noStrike">
                <a:solidFill>
                  <a:srgbClr val="ffffff"/>
                </a:solidFill>
                <a:latin typeface="Constantia"/>
              </a:rPr>
              <a:t>Pleurodeles waltl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) очень неприхотливы. Дома их содержать легко, причем можно пытаться "подружить" их с мирными аквариумными рыбками средней величины, например с золотыми. Испанские тритоны легко приучаются есть </a:t>
            </a:r>
            <a:r>
              <a:rPr b="0" lang="ru-RU" sz="2000" spc="-1" strike="noStrike" u="sng">
                <a:solidFill>
                  <a:srgbClr val="8e58b6"/>
                </a:solidFill>
                <a:uFillTx/>
                <a:latin typeface="Constantia"/>
                <a:hlinkClick r:id="rId2"/>
              </a:rPr>
              <a:t>качественный сухой корм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 и растут довольно быстро. В годовалом возрасте они начинают размножаться. Тритонья "свадьба" – забавное зрелище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    Однако сначала представим действующих лиц этого спектакля. Тритоны регулярно линяют. Сначала покров из слизи и отмерших эпителиальных клеток рвется на голове, а затем животное просто "вылезает из кожи" оставляя прозрачную оболочку. Как правило, эту шкурку тут же и поедают – дабы добро не пропадало. Линять тритонам необходимо вот по какой причине: в их газообмене огромную роль играет кожное дых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2" descr="K:\испанский трит"/>
          <p:cNvPicPr/>
          <p:nvPr/>
        </p:nvPicPr>
        <p:blipFill>
          <a:blip r:embed="rId3"/>
          <a:stretch/>
        </p:blipFill>
        <p:spPr>
          <a:xfrm>
            <a:off x="571680" y="1071720"/>
            <a:ext cx="77864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860400"/>
          </a:xfrm>
          <a:prstGeom prst="rect">
            <a:avLst/>
          </a:prstGeom>
          <a:ln w="0">
            <a:noFill/>
          </a:ln>
        </p:spPr>
      </p:pic>
      <p:sp>
        <p:nvSpPr>
          <p:cNvPr id="543" name="Прямоугольник 2"/>
          <p:cNvSpPr/>
          <p:nvPr/>
        </p:nvSpPr>
        <p:spPr>
          <a:xfrm>
            <a:off x="642960" y="1071720"/>
            <a:ext cx="750096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Огненная саламандра или пятнистая, обыкновенная саламандра (лат. Salamandra salamandra) – самое известное животное из рода саламандр (лат. Salamandra) отряда хвостатых земноводных. Именно это животное в силу своей пятнистой окраски и послужило прототипом для всех аллегорий, мифов и легенд, связанных с 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Constantia"/>
                <a:hlinkClick r:id="rId2"/>
              </a:rPr>
              <a:t>саламандра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ми. Его желтые и оранжевые пятна на шкуре древние ученые, в частности Плиний Старший и Альберт Великий пытались связать со светом далеких звезд. Считалось, что 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Constantia"/>
                <a:hlinkClick r:id="rId3"/>
              </a:rPr>
              <a:t>огненная саламандра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 как-то влияет на появление метеоров, комет и новых звезд, а они в ответ влияют на расположение цветных пятен на ее шкуре. Также имела место связь с различными огненными явлениями, так как вытянутые пятна на шкуре ученые ассоциировали с языками пламени. Символизм в те времена был очень популярен, что принесло известность и этому яркому животному – пятнистой саламандре и нарисовало связь его с огн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2" descr="K:\огнен салам"/>
          <p:cNvPicPr/>
          <p:nvPr/>
        </p:nvPicPr>
        <p:blipFill>
          <a:blip r:embed="rId4"/>
          <a:stretch/>
        </p:blipFill>
        <p:spPr>
          <a:xfrm>
            <a:off x="714240" y="1071720"/>
            <a:ext cx="75009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860400"/>
          </a:xfrm>
          <a:prstGeom prst="rect">
            <a:avLst/>
          </a:prstGeom>
          <a:ln w="0">
            <a:noFill/>
          </a:ln>
        </p:spPr>
      </p:pic>
      <p:sp>
        <p:nvSpPr>
          <p:cNvPr id="546" name="Прямоугольник 2"/>
          <p:cNvSpPr/>
          <p:nvPr/>
        </p:nvSpPr>
        <p:spPr>
          <a:xfrm>
            <a:off x="2000160" y="114300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Это уникальное земноводное миллионы лет назад соседствовало с динозаврами и сумело выжить и приспособиться к новым условиям жизни. Исполинская саламандра ведет водный образ жизни, активна в сумерках и ночью, предпочитает холодные, быстротечные горные ручьи и реки, сырые пещеры и подземные ре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928800"/>
            <a:ext cx="7467480" cy="23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КТО ТАКИЕ ЗЕМНОВОДНЫЕ?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K:\Земноводные и пресмыкающиеся\File2962.jpg"/>
          <p:cNvPicPr/>
          <p:nvPr/>
        </p:nvPicPr>
        <p:blipFill>
          <a:blip r:embed="rId1"/>
          <a:stretch/>
        </p:blipFill>
        <p:spPr>
          <a:xfrm>
            <a:off x="214200" y="0"/>
            <a:ext cx="8572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МНОГООБРАЗИЕ И БИОЭКОЛОГИЧЕСКИЕ ОСОБЕННОСТИ ЛЯГУШЕК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Заголовок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0922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3" descr="K:\ляг трав.jpg"/>
          <p:cNvPicPr/>
          <p:nvPr/>
        </p:nvPicPr>
        <p:blipFill>
          <a:blip r:embed="rId2"/>
          <a:stretch/>
        </p:blipFill>
        <p:spPr>
          <a:xfrm>
            <a:off x="357120" y="1000080"/>
            <a:ext cx="8286840" cy="5357880"/>
          </a:xfrm>
          <a:prstGeom prst="rect">
            <a:avLst/>
          </a:prstGeom>
          <a:ln w="0">
            <a:noFill/>
          </a:ln>
        </p:spPr>
      </p:pic>
      <p:sp>
        <p:nvSpPr>
          <p:cNvPr id="527" name="TextBox 5"/>
          <p:cNvSpPr/>
          <p:nvPr/>
        </p:nvSpPr>
        <p:spPr>
          <a:xfrm>
            <a:off x="785880" y="1500120"/>
            <a:ext cx="7286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Эти лягушки распространены по всему земному шару. Они прыгают в сумерках под сенью тропических и умеренных лесов. Травяную лягушку можно встретить в саду, огороде, или в лес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Эти лягушки средних размеров; террариумы им требуются небольш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Однако вылавливать их запрещено, они занесены в красную книг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Заголовок 2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9828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2" descr="K:\ляг серая.jpg"/>
          <p:cNvPicPr/>
          <p:nvPr/>
        </p:nvPicPr>
        <p:blipFill>
          <a:blip r:embed="rId2"/>
          <a:stretch/>
        </p:blipFill>
        <p:spPr>
          <a:xfrm>
            <a:off x="642960" y="1000080"/>
            <a:ext cx="7572240" cy="5643720"/>
          </a:xfrm>
          <a:prstGeom prst="rect">
            <a:avLst/>
          </a:prstGeom>
          <a:ln w="0">
            <a:noFill/>
          </a:ln>
        </p:spPr>
      </p:pic>
      <p:sp>
        <p:nvSpPr>
          <p:cNvPr id="530" name="TextBox 4"/>
          <p:cNvSpPr/>
          <p:nvPr/>
        </p:nvSpPr>
        <p:spPr>
          <a:xfrm>
            <a:off x="785880" y="2000160"/>
            <a:ext cx="83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Занесены в Красные книги Москвы и Московской обла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Заголовок 1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854280"/>
          </a:xfrm>
          <a:prstGeom prst="rect">
            <a:avLst/>
          </a:prstGeom>
          <a:ln w="0">
            <a:noFill/>
          </a:ln>
        </p:spPr>
      </p:pic>
      <p:sp>
        <p:nvSpPr>
          <p:cNvPr id="532" name="TextBox 2"/>
          <p:cNvSpPr/>
          <p:nvPr/>
        </p:nvSpPr>
        <p:spPr>
          <a:xfrm>
            <a:off x="785880" y="1643040"/>
            <a:ext cx="7572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Величиной с травяную лягушку, но толще и массивнее. Окраска темно – серая. Кожа жабы матовая, сухая на ощупь, покрыта мелкими бугорками. Прыжки тяжелы, неуклюжи. В воде она неповоротна. Зиму проводит зарывшись в землю. Весной мечет игр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Picture 2" descr="K:\жаба обык.jpeg"/>
          <p:cNvPicPr/>
          <p:nvPr/>
        </p:nvPicPr>
        <p:blipFill>
          <a:blip r:embed="rId2"/>
          <a:stretch/>
        </p:blipFill>
        <p:spPr>
          <a:xfrm>
            <a:off x="857160" y="1143000"/>
            <a:ext cx="77155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9334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2" descr="K:\сам мал жаба"/>
          <p:cNvPicPr/>
          <p:nvPr/>
        </p:nvPicPr>
        <p:blipFill>
          <a:blip r:embed="rId2"/>
          <a:stretch/>
        </p:blipFill>
        <p:spPr>
          <a:xfrm>
            <a:off x="571680" y="1071720"/>
            <a:ext cx="800100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537" name="Прямоугольник 4"/>
          <p:cNvSpPr/>
          <p:nvPr/>
        </p:nvSpPr>
        <p:spPr>
          <a:xfrm>
            <a:off x="1285920" y="1357200"/>
            <a:ext cx="6786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Максимальная длина 7-9 см. Спинного гребня у китайского тритона нет. Паротиды (заушные железы) хорошо развиты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Самки крупнее самцов. Принципиальных различий в окраске не существует. В период спаривания у самцов происходит утолщение клоа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Обитает в устье реки Янцзы, Восточно-центральный Китай, провинции: южный Хубэй, Хэнань, южный Аньхой, Дзянсу, Чжэцзян, Цзянси, Хунань, Фуцзянь, Гуанси-Чжуанский автономный рай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Населяет различные стоячие водоемы, например, озера, болота, пруды, селится также на равнинных участках и в горах, окруженные лесным массивом, включая луговины и плантации. У особей, находящихся в водоеме, – активность дневная. У экземпляров, вышедших на сушу, – активность ночн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Picture 3" descr="K:\китайский тр"/>
          <p:cNvPicPr/>
          <p:nvPr/>
        </p:nvPicPr>
        <p:blipFill>
          <a:blip r:embed="rId2"/>
          <a:stretch/>
        </p:blipFill>
        <p:spPr>
          <a:xfrm>
            <a:off x="714240" y="1428840"/>
            <a:ext cx="77868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5:31:07Z</dcterms:created>
  <dc:creator>User</dc:creator>
  <dc:description/>
  <dc:language>en-US</dc:language>
  <cp:lastModifiedBy>Serg</cp:lastModifiedBy>
  <dcterms:modified xsi:type="dcterms:W3CDTF">2010-07-08T15:08:52Z</dcterms:modified>
  <cp:revision>17</cp:revision>
  <dc:subject/>
  <dc:title>Сезонные обитатели уголка природы дошкольного учреждения</dc:title>
</cp:coreProperties>
</file>